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8CD2F2-5059-4260-AC63-7149020D15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47761A-96CC-4D6D-BD0E-A251E35921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2C8603-A3F5-4A05-974B-3EDD948C4B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02F2F5-2F4A-4C91-BE03-7111030DF4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DB5810-988B-43B8-A097-394DC25483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7F0AC2-DDE7-40C7-BDF1-ABB0633E12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43BE29-3810-42B0-97C2-CC5E3E88C7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786053-54CB-458F-BC60-2EA623C5C8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0D7797-93EE-43D3-A687-7B88811D44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CF88FA-E916-44FE-A7E9-9D41BB795D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2D1301-D2D4-494D-AD72-0851A9E00B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F3503B-EE21-440C-8919-AD5650A030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96C043-6119-4BD1-88DA-6DEF7F273E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B392A9-587F-4B01-8AFB-DC97430D22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FC91AA-C787-4CE3-85B7-05B6D57EFC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2359CA-9F45-46BD-BE59-EE05BB93DC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3B250C-A39F-494D-95A7-EFEBDBDE78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4EE59E-4F0E-4622-BA22-C1EACA200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775E39-962E-4A1C-9801-3BFF561298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C8E652-5EDB-4049-B9B1-5AFB34B16B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01E52F-DDC2-4294-914A-F75D17F96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5BA17-42E0-4BD2-96AE-65A92F51D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A3B33-717B-482F-B098-AD219271C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77563-C40A-4B47-973E-7F6E6E723D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Century"/>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5D655-040B-4525-8603-8B0861105838}"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Century"/>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Century"/>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CEED9-CA83-4E86-9314-EE97E6DD5E16}"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Finance in Eduation</a:t>
            </a:r>
            <a:endParaRPr b="1" lang="en-US" sz="3600" spc="-1" strike="noStrike">
              <a:solidFill>
                <a:srgbClr val="003366"/>
              </a:solidFill>
              <a:latin typeface="Arial"/>
            </a:endParaRPr>
          </a:p>
        </p:txBody>
      </p:sp>
      <p:sp>
        <p:nvSpPr>
          <p:cNvPr id="95" name="PlaceHolder 2"/>
          <p:cNvSpPr>
            <a:spLocks noGrp="1"/>
          </p:cNvSpPr>
          <p:nvPr>
            <p:ph type="subTitle"/>
          </p:nvPr>
        </p:nvSpPr>
        <p:spPr>
          <a:xfrm>
            <a:off x="4673520" y="2927520"/>
            <a:ext cx="365760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4</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ull State Funding</a:t>
            </a:r>
            <a:endParaRPr b="1" lang="en-US" sz="3600" spc="-1" strike="noStrike">
              <a:solidFill>
                <a:srgbClr val="006666"/>
              </a:solidFill>
              <a:latin typeface="Arial"/>
            </a:endParaRPr>
          </a:p>
        </p:txBody>
      </p:sp>
      <p:sp>
        <p:nvSpPr>
          <p:cNvPr id="9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533520" indent="-53352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ree different degrees of state participation are possible for financing and operating public schools:</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State operation</a:t>
            </a:r>
            <a:r>
              <a:rPr b="0" lang="en-US" sz="2400" spc="-1" strike="noStrike">
                <a:solidFill>
                  <a:srgbClr val="003366"/>
                </a:solidFill>
                <a:latin typeface="Arial"/>
              </a:rPr>
              <a:t> – substantial reductions in the administrative and operational responsibilities of local boards.</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Complete state operation</a:t>
            </a:r>
            <a:r>
              <a:rPr b="0" lang="en-US" sz="2400" spc="-1" strike="noStrike">
                <a:solidFill>
                  <a:srgbClr val="003366"/>
                </a:solidFill>
                <a:latin typeface="Arial"/>
              </a:rPr>
              <a:t> – elimination of locally raised funds but with state basic programs increased to adequate levels</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Foundational program</a:t>
            </a:r>
            <a:r>
              <a:rPr b="0" lang="en-US" sz="2400" spc="-1" strike="noStrike">
                <a:solidFill>
                  <a:srgbClr val="003366"/>
                </a:solidFill>
                <a:latin typeface="Arial"/>
              </a:rPr>
              <a:t> - state funds added to local tax funds to produce a state-guaranteed level of school suppor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Ramifications of State Funding</a:t>
            </a:r>
            <a:endParaRPr b="1" lang="en-US" sz="3200" spc="-1" strike="noStrike">
              <a:solidFill>
                <a:srgbClr val="006666"/>
              </a:solidFill>
              <a:latin typeface="Arial"/>
            </a:endParaRPr>
          </a:p>
        </p:txBody>
      </p:sp>
      <p:sp>
        <p:nvSpPr>
          <p:cNvPr id="9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cerns are:</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increase in state control of local schools and a corresponding decrease in the power and authority of local school board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state would exercise the power to determine the amount of revenue in every district with little regard for the educational needs or desires of the local citizenry.</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is no way to determine which districts should be given the funds necessary to explore innovative practices or encouraged to become exemplary.</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trict Power Equalization</a:t>
            </a:r>
            <a:endParaRPr b="1" lang="en-US" sz="3600" spc="-1" strike="noStrike">
              <a:solidFill>
                <a:srgbClr val="006666"/>
              </a:solidFill>
              <a:latin typeface="Arial"/>
            </a:endParaRPr>
          </a:p>
        </p:txBody>
      </p:sp>
      <p:sp>
        <p:nvSpPr>
          <p:cNvPr id="10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alternative to full state funding is </a:t>
            </a:r>
            <a:r>
              <a:rPr b="0" i="1" lang="en-US" sz="2800" spc="-1" strike="noStrike">
                <a:solidFill>
                  <a:srgbClr val="003366"/>
                </a:solidFill>
                <a:latin typeface="Arial"/>
              </a:rPr>
              <a:t>district power equalization (DPE).</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vides a poor school district with the power to obtain as much revenue per student as more wealthy district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ach local district mill levy should produce the same number of dollars of total school revenue per mill per weighted student in every disctric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etermining the Best Finance Plan</a:t>
            </a:r>
            <a:endParaRPr b="1" lang="en-US" sz="3200" spc="-1" strike="noStrike">
              <a:solidFill>
                <a:srgbClr val="006666"/>
              </a:solidFill>
              <a:latin typeface="Arial"/>
            </a:endParaRPr>
          </a:p>
        </p:txBody>
      </p:sp>
      <p:sp>
        <p:nvSpPr>
          <p:cNvPr id="10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no perfect systems for distributing state funds to local school districts.  Each plan has limitations and falls short of equalizing financial resources to the complete satisfaction of all the people concerned.</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me school systems are better than others and some states make greater efforts to improve than other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228600"/>
            <a:ext cx="8001000" cy="1295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etermining the Best Finance Plan</a:t>
            </a:r>
            <a:endParaRPr b="1" lang="en-US" sz="3200" spc="-1" strike="noStrike">
              <a:solidFill>
                <a:srgbClr val="006666"/>
              </a:solidFill>
              <a:latin typeface="Arial"/>
            </a:endParaRPr>
          </a:p>
        </p:txBody>
      </p:sp>
      <p:sp>
        <p:nvSpPr>
          <p:cNvPr id="105"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is safe to assume that school financing plans of the future will emphasize greater state involvement and proportionately less local responsibilit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nce the property tax is the realistic source of local revenue, it is evident that state tax sources will have to be increased  to meet the surging costs of educatio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ales tax and income tax are used mostly by the state government.  These taxes are probably going to increase in order to finance the high-quality education programs that nearly all citizens demand.</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incipal Types of Weightings</a:t>
            </a:r>
            <a:endParaRPr b="1" lang="en-US" sz="3600" spc="-1" strike="noStrike">
              <a:solidFill>
                <a:srgbClr val="006666"/>
              </a:solidFill>
              <a:latin typeface="Arial"/>
            </a:endParaRPr>
          </a:p>
        </p:txBody>
      </p:sp>
      <p:sp>
        <p:nvSpPr>
          <p:cNvPr id="10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any consideration of the number of pupils as a determinant of the money needs of a district, several important weightings could be considered: (1) the sparsity or isolation of pupils in rural areas, (2) the density of pupils in heavily populated metropolitan areas, (3) the grade levels of pupils, and (4) the degree of disadvantage certain classes of pupils may suffer, such as those who require special education service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incipal Types of Weightings</a:t>
            </a:r>
            <a:endParaRPr b="1" lang="en-US" sz="3600" spc="-1" strike="noStrike">
              <a:solidFill>
                <a:srgbClr val="006666"/>
              </a:solidFill>
              <a:latin typeface="Arial"/>
            </a:endParaRPr>
          </a:p>
        </p:txBody>
      </p:sp>
      <p:sp>
        <p:nvSpPr>
          <p:cNvPr id="10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sideration should also be given to the training and experience of the professional staff members of each district.  To consider all pupils to be of equal worth or cost is no more erroneous than to consider all teachers to be of equal worth or cost to a school system.</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Miscellaneous Weighting Factors</a:t>
            </a:r>
            <a:endParaRPr b="1" lang="en-US" sz="3200" spc="-1" strike="noStrike">
              <a:solidFill>
                <a:srgbClr val="006666"/>
              </a:solidFill>
              <a:latin typeface="Arial"/>
            </a:endParaRPr>
          </a:p>
        </p:txBody>
      </p:sp>
      <p:sp>
        <p:nvSpPr>
          <p:cNvPr id="11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ny other weighting factors can reasonably be expected in state foundation programs.  Notable examples include provisions of funds for transportation, administrative and other professional nonteachng personnel, and capital outlay or debt servic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5T15:51:57Z</dcterms:created>
  <dc:creator>Cynthia Altemueller</dc:creator>
  <dc:description/>
  <dc:language>en-US</dc:language>
  <cp:lastModifiedBy>AEURY</cp:lastModifiedBy>
  <dcterms:modified xsi:type="dcterms:W3CDTF">2007-01-04T17:53:21Z</dcterms:modified>
  <cp:revision>4</cp:revision>
  <dc:subject/>
  <dc:title>Finance in Eduation</dc:title>
</cp:coreProperties>
</file>